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F7C-084C-45DD-B57A-603B58CC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FBA-4B08-4ADA-BB4D-37EF2396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A8F-7E42-40EB-B9DD-B277C34D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B81-E40D-437E-A24E-A7E6D82D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8A4D-64A9-434B-97CD-BBAED447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672F-3186-446A-9250-CCCCFE96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8480-78E4-43D4-BAAA-2551A08D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F61E-95F0-41DF-895D-E4261890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CA9D-7B40-49ED-B32C-E4EF58A0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C107-1A95-4664-8F1F-D2706C6B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2957-1F56-4DB5-9E32-BB5BC43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ED5-DACD-4317-A964-6077A4A4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B705-25F9-4863-BDE9-A5470043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94B4-50DE-4461-87FE-8ABBDB32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F2F3-A323-441B-A3AC-843998AA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8979-E245-4DA8-947C-03431907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4B9D-A32C-49A7-A348-2956ABDA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737-E70F-4B8D-9C98-D2CABF07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E40-0FC1-4314-93E3-396C2112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0C1-DC8E-437C-B748-291EB84F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667-0134-449A-802C-FB3E5E92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EF6-ED02-45B9-848B-343D8433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B7D-32C5-4758-B6CF-CEDE058D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59B-351E-42DF-B05B-CAF52108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8F10-841E-47CB-8E9B-5476C789B989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9B44-FC77-4519-95D3-E8BCB17DE70E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092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PORÓWNYWANIE 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UŁAMKÓW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O TYCH SAMYCH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LICZNIK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6640" y="96768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abcia Marzeny lubi piec ciasta. Przygotowała dwie rolady. Jedną z makiem, a drugą z bitą śmietan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6640" y="162972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jome zjadł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46280" y="1628640"/>
                <a:ext cx="216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62360" y="158436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725560" y="1627920"/>
            <a:ext cx="20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ady z makiem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42000" y="1627920"/>
            <a:ext cx="37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ady z bitą śmieta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988280"/>
            <a:ext cx="37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órej rolady zjedzono więcej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11280" y="2708280"/>
          <a:ext cx="30164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708280"/>
                    <a:ext cx="3016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157720" y="2708280"/>
          <a:ext cx="2992680" cy="22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7720" y="2708280"/>
                    <a:ext cx="29926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646280" y="2437200"/>
            <a:ext cx="166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Rolada z maki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46640" y="2392920"/>
            <a:ext cx="23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Rolada z bitą śmietan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32000" y="5272920"/>
            <a:ext cx="52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ęcej zjedzono rolady z bitą śmietaną, za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7000" y="5634000"/>
          <a:ext cx="16207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7000" y="5634000"/>
                    <a:ext cx="1620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586640" y="3924360"/>
          <a:ext cx="53964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86640" y="3924360"/>
                    <a:ext cx="5396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986280" y="3924360"/>
          <a:ext cx="54144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86280" y="3924360"/>
                    <a:ext cx="5414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6640" y="1104120"/>
            <a:ext cx="52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Zuzanna i Ola jadły torciki lodowe. Zuzia zjadł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46640" y="1088280"/>
            <a:ext cx="26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ciku lodowego, a O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41280" y="1493280"/>
            <a:ext cx="54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óra z dziewczynek zjadła większą część tor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2000" y="46425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ęcej torciku zjadła Ola, za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67360" y="954000"/>
                <a:ext cx="2095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596440" y="998640"/>
                <a:ext cx="261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1"/>
          <a:srcRect l="14354" t="13739" r="21254" b="18131"/>
          <a:stretch/>
        </p:blipFill>
        <p:spPr>
          <a:xfrm>
            <a:off x="2141640" y="2124000"/>
            <a:ext cx="4498920" cy="17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5562720" y="3743280"/>
          <a:ext cx="304560" cy="63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3743280"/>
                    <a:ext cx="304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906640" y="3743280"/>
          <a:ext cx="2826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06640" y="3743280"/>
                    <a:ext cx="282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716280" y="5229360"/>
          <a:ext cx="1395360" cy="915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16280" y="5229360"/>
                    <a:ext cx="13953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46280" y="1314360"/>
            <a:ext cx="7993080" cy="3376800"/>
            <a:chOff x="746280" y="1314360"/>
            <a:chExt cx="7993080" cy="3376800"/>
          </a:xfrm>
        </p:grpSpPr>
        <p:sp>
          <p:nvSpPr>
            <p:cNvPr id="137" name=""/>
            <p:cNvSpPr/>
            <p:nvPr/>
          </p:nvSpPr>
          <p:spPr>
            <a:xfrm>
              <a:off x="2044800" y="1654560"/>
              <a:ext cx="516888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Z dwóch ułamków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o tych samych licznika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en jest większy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który ma mniejsz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mianownik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6280" y="1314360"/>
              <a:ext cx="7993080" cy="3376800"/>
            </a:xfrm>
            <a:prstGeom prst="ellipse">
              <a:avLst/>
            </a:pr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6640" y="1088280"/>
            <a:ext cx="40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konując rysunek porównaj ułam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11280" y="1943280"/>
                <a:ext cx="1373040" cy="23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i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PORÓWNYWANIE UŁAMKÓW O RÓŻNYCH MIANOWNIK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" y="1132920"/>
            <a:ext cx="81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 porównywaniu ułamków korzystamy ze znanej nam już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tody „na krzy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000" y="1718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ównaj ułam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71640" y="1584360"/>
                <a:ext cx="711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i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1" name=""/>
          <p:cNvGraphicFramePr/>
          <p:nvPr/>
        </p:nvGraphicFramePr>
        <p:xfrm>
          <a:off x="3176640" y="2390760"/>
          <a:ext cx="180000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6640" y="2390760"/>
                    <a:ext cx="1800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198080" y="3584520"/>
            <a:ext cx="693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· 13 = 15 ·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 = 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 &lt; 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· 13 = 15 · 9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w większym iloczynie szukamy licznika ułam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· 13 &lt; 15 ·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511280" y="5273640"/>
                <a:ext cx="9223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771640" y="5407920"/>
            <a:ext cx="45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łamek o znalezionym liczniku jest więks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46280" y="1314360"/>
            <a:ext cx="7993080" cy="3376800"/>
            <a:chOff x="746280" y="1314360"/>
            <a:chExt cx="7993080" cy="3376800"/>
          </a:xfrm>
        </p:grpSpPr>
        <p:sp>
          <p:nvSpPr>
            <p:cNvPr id="160" name=""/>
            <p:cNvSpPr/>
            <p:nvPr/>
          </p:nvSpPr>
          <p:spPr>
            <a:xfrm>
              <a:off x="2066400" y="1899000"/>
              <a:ext cx="51260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orównując ułamki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różnych mianownikach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osujemy metodę</a:t>
              </a:r>
              <a:br>
                <a:rPr sz="3200"/>
              </a:b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 mnożenia „na krzyż”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280" y="1314360"/>
              <a:ext cx="7993080" cy="3376800"/>
            </a:xfrm>
            <a:prstGeom prst="ellipse">
              <a:avLst/>
            </a:pr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39:39Z</dcterms:modified>
  <cp:revision>55</cp:revision>
  <dc:subject/>
  <dc:title>Slajd 1</dc:title>
</cp:coreProperties>
</file>